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022-6D7F-43F0-8B0A-84D400C3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3CA-F3F3-4647-AE2E-2914CF3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AEC-76D0-4377-A3BC-010E195F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F3F-15D6-4096-A9ED-2E85BC41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7D4-2180-4859-ABE9-F41F722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801-8FA6-438A-9F48-01DBD70A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5D9-2EC1-48D2-9171-F11E972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37A-557E-4B20-901F-857BDAC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CD0-1E69-46EA-BF4E-EC85858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2DB-A8A6-4206-BFD9-99C89B0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2B6-5A96-42B9-B3D6-9640F517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690-624C-499B-807E-AE11F61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1101-EAA4-403B-A88D-DCD1CAD88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3 Tá vzácna mil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vzácna milosť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vojím smiem sa z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o tme sveta svetl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d ňu môžem m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hriechu zvod ma pokú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d číha z všetkých st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žom milosť okúš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, Kriste, z tvojich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milosť tvoja zbav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trachu, tráp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odpustení dar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tisíc rokov by som 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šiel cel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milosť by som vele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ktorú v svete ni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12:18Z</dcterms:modified>
  <cp:revision>12</cp:revision>
  <dc:subject/>
  <dc:title>Je veľký náš Pán, on slávy je Kráľ Nech do všetkých strán  spev vrúcnych znie chvál.</dc:title>
</cp:coreProperties>
</file>